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A4DC-7AAB-4F5D-A42E-04E89D78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14D4-6254-4FBB-8FC0-8DA8CBC0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866A-63CE-4553-A34D-1ECE6BDA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70BB-0EE3-471D-9BDE-592EC81A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1E1D-A89E-480B-81AB-5694C16D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315C-909B-4104-931F-49703408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7347-833E-43B3-92E0-96B1C5B0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4553-1C06-46F3-B951-140AD506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20D4-FE8D-4451-9598-93611BF4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F30D-AE51-499C-815E-982D4B4A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2E8B-F0EF-41BF-B9EB-6C2033F7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9AC4-3D0B-4E41-8CDC-75FD95B0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34FE-41BA-431E-A406-1FADBDE4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0C6A-C12B-4BA4-9300-4AF37248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FC1B-7173-4652-946A-9B3C36EB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84A5-1CE4-4165-AEC0-4EDDD2A5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11E6-0AF8-4D6A-8D02-51215857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F394F-3386-4467-B880-7C57D62B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C8C02-9FCC-4D1D-B473-917FC9EA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2CAFB-5AC6-4E50-B768-24C03AFC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6D593-8691-422B-AFA0-77948A38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96E36-4454-4B14-AFEC-7667BA97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BC78-B239-4C86-9872-DB4A4A22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518EE-D00D-4E09-A562-BB77992B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2EC1A-73EF-4210-A149-FF88AC32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1E4DC-BA35-46FE-8DAD-7C0B5B34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416E2-A704-4451-A4BD-05338B4D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E7969-45B8-4D8A-9486-4EBE33B7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CE5DB-73AF-4A05-A72A-279013E9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1360D-E18D-4E35-9EF5-2051FDCB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980F7-D8A5-4CB6-8C38-770C1EA7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B13B6-3BC9-42B0-9354-FB890C24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959B5-F848-428E-9B0F-242179FF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EBC4-1605-4B7F-A8AC-432BDAC9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980BA-3EE9-4237-AE1B-1B6BE01B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C6BE4-18C0-4A12-80B2-791BD26D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21BDC-1CB3-4E17-82E6-B9533440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19177-1455-4456-B8A0-D7740F5E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93F67-C73D-4BC9-9B93-419683CE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8CAE2-AE44-4A9F-AFE2-41016BFD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475E3-26AA-4DF0-ABB2-E5FB6ACF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B0202-B831-4464-A7A8-E6B5A9E9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F203B-00ED-40A9-BEB0-EDDDE9F2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1B446-D5F4-429F-89C1-046E6CF0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DF10-DA38-4C0F-B07C-DDB2C321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65F0D-2620-4EDE-BC1B-78A09B9D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AE6B6-2BDD-4901-9797-2D065718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6F94E-E4AE-46B9-9292-D9BE1A84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E5165-225F-4BD8-AB59-2AFCB83D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A3E6C-B496-43D5-92DF-019807F1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72C08-6D82-4D15-9D17-DDCC8C7E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14F55-0336-4CE6-A08B-3D6BFD24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12585-B69F-4296-915C-610437B1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99A08-BCA8-4D01-ADBF-0FD889C7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38DE4-F25B-4E03-AD15-5E355CE1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5B63-EE71-4249-ABEF-ADA4D5D1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4B9FF-5783-4914-8353-84185282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ED7F-B54E-4BD6-8438-A349DBED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6072-5B92-4CEA-BE04-AB04ADCC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84AB-0DBC-47FF-9789-ADBD51EC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6444-DCCC-492B-A807-E31CD7BC28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DFB9-EE40-436B-9BB4-5D3534E2F3C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43FA-9CDC-4CB3-AD5E-A3D51A5C6D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439F-904B-413C-8F7F-CF235B96A2B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BE8B-12B3-4324-A610-F97EAD61BD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MP900439539[1]"/>
          <p:cNvPicPr/>
          <p:nvPr/>
        </p:nvPicPr>
        <p:blipFill>
          <a:blip r:embed="rId1"/>
          <a:stretch/>
        </p:blipFill>
        <p:spPr>
          <a:xfrm>
            <a:off x="228600" y="-1447920"/>
            <a:ext cx="8686800" cy="10211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6324480" y="2133720"/>
            <a:ext cx="2819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ra de Limba Roman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5213520"/>
            <a:ext cx="289548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aterial realizat de catre elevele clsasei a VI-a B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oana Cosma si Alina Stoia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in Scoala cu clasele I-VIII N.I. JILINSCHI Vernest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1219320" y="25909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Litera si sunetu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net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ubRRectCallout"/>
          <p:cNvSpPr/>
          <p:nvPr/>
        </p:nvSpPr>
        <p:spPr>
          <a:xfrm>
            <a:off x="609480" y="1219320"/>
            <a:ext cx="7010640" cy="3047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685800" y="533520"/>
            <a:ext cx="685800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5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Care este diferenta dintre o LITERA si un SUNET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0" descr="meditatii_elevi"/>
          <p:cNvPicPr/>
          <p:nvPr/>
        </p:nvPicPr>
        <p:blipFill>
          <a:blip r:embed="rId1"/>
          <a:stretch/>
        </p:blipFill>
        <p:spPr>
          <a:xfrm>
            <a:off x="3657600" y="4038480"/>
            <a:ext cx="4343400" cy="26607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1"/>
          <p:cNvSpPr/>
          <p:nvPr/>
        </p:nvSpPr>
        <p:spPr>
          <a:xfrm>
            <a:off x="838080" y="3049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 dintre elevi intreaba adeseor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83059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533520" y="10666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e este scopul acestul materi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533520" y="1981080"/>
            <a:ext cx="426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OPUL nostru este de a reduce, sau chiar a elimina numarul de elevi ce nu pot, sau nu stiu sa deosebeasca LITERA de SU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8600" y="174600"/>
            <a:ext cx="5638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terele au o vechime foarte mare. In istoria scrisului romanesc exista doua tipuri de alfab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A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fabetul chiril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- este alfabetul textelor romanesti vechi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- este un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sistem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de scrier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reat la sfarsitul secolului al IX- lea de ucenici al misionarilor crestini de origine bulgara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- n-a fost niciodata perfect adecvat sau adaptat scrierii  romanest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2. Alfabetul lati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- este o achizitie ceva mai tarzie in scrisul romanesc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- doua texte romanesti cu grafica latina de la sfarsitul secolului al XVI-lea a functionat si 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- numitul alfabet de tranzitie , fondat pe utilizarea combinata  a literelor chirilice si a celor latine 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ecursul sistematic al alfabetului latin dateaza din perioada Scolii Ardelene; alaturi de slavona, latina a functionat  ca limba  a culturii romanesti vechi , pozitia ei fiind oficial stabilita in Transilvania 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n concluzie, pe teritoriul limbii romane a existat permanent atat exercitiul, cat si constiinta scrisului cu caractere lat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791320" y="838080"/>
            <a:ext cx="3151080" cy="48006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7" descr="MC900439407[1]"/>
          <p:cNvPicPr/>
          <p:nvPr/>
        </p:nvPicPr>
        <p:blipFill>
          <a:blip r:embed="rId1"/>
          <a:stretch/>
        </p:blipFill>
        <p:spPr>
          <a:xfrm>
            <a:off x="4419720" y="1676520"/>
            <a:ext cx="4473360" cy="4819680"/>
          </a:xfrm>
          <a:prstGeom prst="rect">
            <a:avLst/>
          </a:prstGeom>
          <a:ln w="0">
            <a:noFill/>
          </a:ln>
        </p:spPr>
      </p:pic>
      <p:pic>
        <p:nvPicPr>
          <p:cNvPr id="228" name="TextBox 4" descr=""/>
          <p:cNvPicPr/>
          <p:nvPr/>
        </p:nvPicPr>
        <p:blipFill>
          <a:blip r:embed="rId2"/>
          <a:stretch/>
        </p:blipFill>
        <p:spPr>
          <a:xfrm>
            <a:off x="2109960" y="-895320"/>
            <a:ext cx="4844880" cy="31687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5"/>
          <p:cNvSpPr/>
          <p:nvPr/>
        </p:nvSpPr>
        <p:spPr>
          <a:xfrm>
            <a:off x="762120" y="1066680"/>
            <a:ext cx="4572000" cy="46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0"/>
          <p:cNvSpPr/>
          <p:nvPr/>
        </p:nvSpPr>
        <p:spPr>
          <a:xfrm>
            <a:off x="457200" y="1981080"/>
            <a:ext cx="411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er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e semnul grafic din alfabetul unei limbi, care corespunde, in general, unui sunet al limbii resp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1" descr="MC900439512[2]"/>
          <p:cNvPicPr/>
          <p:nvPr/>
        </p:nvPicPr>
        <p:blipFill>
          <a:blip r:embed="rId1"/>
          <a:stretch/>
        </p:blipFill>
        <p:spPr>
          <a:xfrm>
            <a:off x="3733920" y="2514600"/>
            <a:ext cx="5715000" cy="7086600"/>
          </a:xfrm>
          <a:prstGeom prst="rect">
            <a:avLst/>
          </a:prstGeom>
          <a:ln w="0">
            <a:noFill/>
          </a:ln>
        </p:spPr>
      </p:pic>
      <p:pic>
        <p:nvPicPr>
          <p:cNvPr id="232" name="TextBox 4" descr=""/>
          <p:cNvPicPr/>
          <p:nvPr/>
        </p:nvPicPr>
        <p:blipFill>
          <a:blip r:embed="rId2"/>
          <a:stretch/>
        </p:blipFill>
        <p:spPr>
          <a:xfrm>
            <a:off x="3108240" y="-920880"/>
            <a:ext cx="3043440" cy="32990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304920" y="2819520"/>
            <a:ext cx="4495680" cy="228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O definitie mai scurt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,,</a:t>
            </a:r>
            <a:r>
              <a:rPr b="1" i="1" lang="en-US" sz="30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Sunetul</a:t>
            </a:r>
            <a:r>
              <a:rPr b="0" lang="en-US" sz="30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 este reprezentarea sonora a literelor.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Rectangle 5" descr=""/>
          <p:cNvPicPr/>
          <p:nvPr/>
        </p:nvPicPr>
        <p:blipFill>
          <a:blip r:embed="rId3"/>
          <a:stretch/>
        </p:blipFill>
        <p:spPr>
          <a:xfrm>
            <a:off x="176040" y="1536840"/>
            <a:ext cx="9126720" cy="14554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j0301252"/>
          <p:cNvPicPr/>
          <p:nvPr/>
        </p:nvPicPr>
        <p:blipFill>
          <a:blip r:embed="rId1"/>
          <a:stretch/>
        </p:blipFill>
        <p:spPr>
          <a:xfrm>
            <a:off x="-533520" y="380880"/>
            <a:ext cx="7848720" cy="67122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2"/>
          <p:cNvSpPr/>
          <p:nvPr/>
        </p:nvSpPr>
        <p:spPr>
          <a:xfrm>
            <a:off x="3429000" y="22860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ru a le raspunde elevilor la intrebare si a-i lamuri cu privinta la LITERE si SUNETE, am extras o concluzie din aceasta prezent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0" y="12952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 o legatura intre e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oarece LITERA 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0" y="19051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iem, iar cu ajuto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0" y="22096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ETULUI pronun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838080" y="2514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 litera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0" y="9144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TER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ETU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527688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676520" y="228600"/>
            <a:ext cx="7086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opotelul a sunat ceea ce inseamna ca aici ora de Limba Romana a luat sfarsit. Va multumim pentru timpul acordat si speram ca v-am lamurit in privinta literelor si sunetel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0010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020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3:45:53Z</dcterms:created>
  <dc:creator>ddd</dc:creator>
  <dc:description/>
  <dc:language>en-US</dc:language>
  <cp:lastModifiedBy>Marius</cp:lastModifiedBy>
  <dcterms:modified xsi:type="dcterms:W3CDTF">2010-10-18T09:25:09Z</dcterms:modified>
  <cp:revision>24</cp:revision>
  <dc:subject/>
  <dc:title>Slide 1</dc:title>
</cp:coreProperties>
</file>